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22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9.jpeg" ContentType="image/jpeg"/>
  <Override PartName="/ppt/media/image40.png" ContentType="image/png"/>
  <Override PartName="/ppt/media/image23.png" ContentType="image/png"/>
  <Override PartName="/ppt/media/image13.jpeg" ContentType="image/jpeg"/>
  <Override PartName="/ppt/media/image30.wmf" ContentType="image/x-wmf"/>
  <Override PartName="/ppt/media/image10.png" ContentType="image/png"/>
  <Override PartName="/ppt/media/image33.wmf" ContentType="image/x-wmf"/>
  <Override PartName="/ppt/media/image34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5.png" ContentType="image/png"/>
  <Override PartName="/ppt/media/image28.png" ContentType="image/png"/>
  <Override PartName="/ppt/media/image31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26.png" ContentType="image/png"/>
  <Override PartName="/ppt/media/image25.wmf" ContentType="image/x-wmf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3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6EB4-326B-4E4F-8EBD-26F1BF09B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DB38-6D15-471B-B302-24DCCFABFB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0075-969D-4076-AFE4-C6AE3906C7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C4BC-2FFF-42AA-BBE8-9EF8768C0E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B39D-259D-480C-ADF8-391FFA5193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B9FC-949E-41ED-8A34-D35E9FC174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F90B-CCBB-40FE-A7A2-C5D35E4304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16C1-4C5C-4541-A629-172E8F8A7C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84C9-09ED-4087-A164-95A8E9F48F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6899-F8AC-411A-9A29-FE0DF02F9E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0800-F5F0-47DB-BF40-DC066AD6E5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6836-EA8D-4621-966F-3C2694FB50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A9EB-9C2B-4F32-A583-A53CD3D990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8CE8-0CA4-409C-9470-4D9D509FD7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1C03-17D8-4959-AB74-6FAB122864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4CD5-396E-4667-BFDC-9C3D99E377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3F65-69E8-4D8F-A4CA-0D18155FDC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3BCB-E6D4-405E-9888-4EA2474DEF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BB1B-A4F0-4085-A386-57C95E1DF7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14CB-FFA2-4C70-8662-D6A34526AA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FE64-8BF0-4EC2-BD8C-78BF5D7C6D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99C2-81E3-48E8-9A04-EBA9B9C516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D3DD-5D02-4B47-AEED-B4BAF72836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D76C-6602-455C-A739-DE455A8C7A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58CE-1303-4F42-A679-6D8E57AA46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2865-88D8-4C12-A59B-243B3D3F16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3E52-2E6F-465C-81B9-0D6A5E384B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AFB9-7961-4857-AA50-BD0AF0736E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39A8-404A-4C73-8C83-152F7A69EA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E95D-A9B5-4A6C-B76F-8DB1F6194E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B175-3E35-4DF1-9F43-47107DF61E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9F86-401B-4363-A7D9-EF8C968A95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9295-9893-4DFF-BA65-7206738EAD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CA79-FA6E-43C0-BEEE-DC570FDA3F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B4D7-71CC-4BC6-8406-96A0679258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38D8-B2CE-4FEF-96F6-4A39696750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22E1-7068-4854-AEC4-28E989E3EA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D4C7-69A4-44FE-8022-5BC421BAF2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9286-E435-4E1A-A12B-EEF76FB5C0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BB5B-5AE8-4978-B134-52C58A6136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E91F-B2E9-43D7-993C-07E24CFCDB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29C4-430C-4345-B315-782D52D022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4DB0-707A-4945-8A7F-324DB2A34E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8E16-D1BF-4CFD-8528-8F10A495D1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EBBF-D2A3-48E4-8AFB-2092F9CE97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59C0-13A3-43F4-8365-E54A0307E0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6C5E-16D4-4818-9FFC-DF6DF09EA4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9394-A191-4FE4-AA92-8D57A59529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BF4E-D253-4A77-86FF-4FA0375F48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0494-32AA-4443-8B53-6DEBA2E539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B88C-6BBD-4D5F-8DE3-7A5F25BFEA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F779-7CE6-4942-B914-F2FF904C6B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5F5B-9534-4C68-BB3F-20041E7108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240E-57A0-408A-986D-AE602A7BDE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D859-91F3-40B4-94AD-5684101DDB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9312-5659-4772-8B87-20D1479F04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515A-20A2-4A9B-9468-C6AC5546D1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C8CC-6E27-41A8-B399-64BB5263A5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7650-BAB7-408A-87F8-A9A78DE411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91CA-34FA-4F7F-BFAA-CDAD062ACE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37D4-4C50-452E-9106-E96D5AFE0B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CE27-DC6A-4DDD-A31F-05B7CC223F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A02B-7AE3-4F17-9D77-EFB8FC2EE1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A544-4089-47EE-B573-764DA7A8C4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5493-4515-4A62-A885-24B7E78A3A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4FA5-0A6E-40AE-A42C-199DE00B2E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6DF2-88C8-40E5-8635-E506A133E7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1ACE-4908-4293-91D0-2EC84CF07B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F66F-D90C-4601-85FF-F7528D4AD5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F15F-1458-484F-B774-A5B919C761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D570-E73B-4C04-B39F-0E55DBA495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D408-46C9-487A-A5B8-6D56241707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5248-98D9-4CAC-8C0F-04E7CFF3B5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4422-9D46-4D49-B157-9EB6EFEF9A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AEAC-299D-448C-835F-F1E28A9845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C997-72E9-4A9A-9F80-875BD9C0D8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CEEB-584C-4070-8F75-1D0DDD8903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0695-711E-4A3B-AD19-717D9B6331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47A1-4792-48EA-9CCD-C44C3C5B43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664D-EE20-4577-97A3-34878E2908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96FB-E820-43FC-8606-7287A60318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0366-997D-4F9A-ACE0-FB4AB2EF3E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C846A-23A6-484F-B290-0F8B84EF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9B61F-535F-4939-8D8F-9E0C364B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7232F-50AD-45D9-B889-DA53CC17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5C5A-2801-4505-9AA6-95E22BE5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B45F-38B7-4D72-9A0F-88236185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1F81-B7D3-4561-8248-30B65AE4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00FF-EA90-42F1-AD81-D847200F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A666-3AC8-4BBC-9AF9-CEBE9EEA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8AF7-0852-4113-B90B-26F4BFF2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D145-DB5C-4A1D-AF11-8F1C46F6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2AC1-F197-40A6-9D2A-97F9B805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6B174-D45F-46E1-9987-666706CC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565A-DF0C-4688-9B43-A2256DB9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0133-D1B9-4FCA-8AB9-1CBCE7E0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28C1-8686-4F2E-8342-13C34321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6FA2-7A57-4D4B-8FA3-9DAD89AD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406C-5D00-4122-A566-A87D52C0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1CCFB-B9FC-4C4D-A6AF-513FD4D7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DBF04-A38D-4D96-B4BC-6419C858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79603-0F8F-405D-9260-6DD611BB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3A3DE-DE18-4F1A-94B1-81A98834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96823-85A3-4556-A804-186DA61C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EC9C0-F668-455A-98D9-58614572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14DF9-7422-469E-8D0A-D6354173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0B94-4441-4D1F-A963-772FD561CB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2851-8210-445E-942A-17432D39EC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8686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Шеста недеља:</a:t>
            </a:r>
            <a:r>
              <a:rPr b="1" lang="sr-C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Метаболизам угљених хидрат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икогенеза. Гликогенолиза. Глуконеогенез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3" descr="samo-logo"/>
          <p:cNvPicPr/>
          <p:nvPr/>
        </p:nvPicPr>
        <p:blipFill>
          <a:blip r:embed="rId1"/>
          <a:stretch/>
        </p:blipFill>
        <p:spPr>
          <a:xfrm>
            <a:off x="0" y="0"/>
            <a:ext cx="1752480" cy="2390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1763640" y="40464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ФАКУЛТЕТ МЕДИЦИНСКИХ НАУКА КРАГУЈЕВАЦ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ИАСМ, Б3, шеста недељ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атедра за медицинску биохемиј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748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1.Гликогенеза започиње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фосфорилацијом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укозе у глукозо-6-фосфат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у јетри деловањем </a:t>
            </a:r>
            <a:r>
              <a:rPr b="1" lang="en-AU" sz="2200" spc="-1" strike="noStrike" u="sng">
                <a:solidFill>
                  <a:srgbClr val="ffff00"/>
                </a:solidFill>
                <a:uFillTx/>
                <a:latin typeface="Arial"/>
              </a:rPr>
              <a:t>глукокиназе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 у мишићима деловањем </a:t>
            </a:r>
            <a:r>
              <a:rPr b="1" lang="en-AU" sz="2200" spc="-1" strike="noStrike" u="sng">
                <a:solidFill>
                  <a:srgbClr val="ffff00"/>
                </a:solidFill>
                <a:uFillTx/>
                <a:latin typeface="Arial"/>
              </a:rPr>
              <a:t>хексокиназе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У оба случаја неопходан је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ATP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 Mg</a:t>
            </a:r>
            <a:r>
              <a:rPr b="1" lang="en-AU" sz="22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1" lang="en-AU" sz="2200" spc="-1" strike="noStrike">
                <a:solidFill>
                  <a:srgbClr val="a886e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Glucose + ATP -----&gt; glucose-6-PO4 + ADP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2.У наредној реакцији глукозо-6-фосфат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е преводи у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укозo-1-фoсфат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дејствoм ензима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 u="sng">
                <a:solidFill>
                  <a:srgbClr val="ffff00"/>
                </a:solidFill>
                <a:uFillTx/>
                <a:latin typeface="Arial"/>
              </a:rPr>
              <a:t>фoсфoглукoмутазe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Glucose 6-PO4 &lt;------------&gt; Glucose –1- PO4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6456240" y="620640"/>
            <a:ext cx="2579760" cy="55753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8153640" y="157644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g2+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324000" y="319320"/>
            <a:ext cx="85914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укозо-1-фосфат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уридин-трифосфат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УТП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под утицајем глукозо-1-фосфо уридилтрансферазе (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УДПГ-пирофосфорилазе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реагују и настаје активни нуклеотид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уридин-дифосфат-глукоза</a:t>
            </a:r>
            <a:r>
              <a:rPr b="1" lang="en-AU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sr-Latn-C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(УДП – ГЛУКОЗ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(UDPG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lucose 1-PO4 + UTP ---------&gt; UDP-glucose + PPi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2" name="Group 11"/>
          <p:cNvGrpSpPr/>
          <p:nvPr/>
        </p:nvGrpSpPr>
        <p:grpSpPr>
          <a:xfrm>
            <a:off x="755640" y="3429000"/>
            <a:ext cx="4608000" cy="2879280"/>
            <a:chOff x="755640" y="3429000"/>
            <a:chExt cx="4608000" cy="2879280"/>
          </a:xfrm>
        </p:grpSpPr>
        <p:pic>
          <p:nvPicPr>
            <p:cNvPr id="163" name="Picture 7" descr=""/>
            <p:cNvPicPr/>
            <p:nvPr/>
          </p:nvPicPr>
          <p:blipFill>
            <a:blip r:embed="rId1"/>
            <a:stretch/>
          </p:blipFill>
          <p:spPr>
            <a:xfrm>
              <a:off x="812880" y="3522240"/>
              <a:ext cx="431208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Oval 8"/>
            <p:cNvSpPr/>
            <p:nvPr/>
          </p:nvSpPr>
          <p:spPr>
            <a:xfrm>
              <a:off x="4326480" y="5219640"/>
              <a:ext cx="978840" cy="65844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Oval 9"/>
            <p:cNvSpPr/>
            <p:nvPr/>
          </p:nvSpPr>
          <p:spPr>
            <a:xfrm>
              <a:off x="4384800" y="3522240"/>
              <a:ext cx="978840" cy="84780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Oval 10"/>
            <p:cNvSpPr/>
            <p:nvPr/>
          </p:nvSpPr>
          <p:spPr>
            <a:xfrm>
              <a:off x="755640" y="3429000"/>
              <a:ext cx="1151640" cy="103644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67" name="Picture 12" descr="glycogen_UDP_glucose-pyrophosphorylase"/>
          <p:cNvPicPr/>
          <p:nvPr/>
        </p:nvPicPr>
        <p:blipFill>
          <a:blip r:embed="rId2"/>
          <a:stretch/>
        </p:blipFill>
        <p:spPr>
          <a:xfrm>
            <a:off x="5435640" y="2924280"/>
            <a:ext cx="33116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250920" y="1011240"/>
            <a:ext cx="86421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УДП- глукоза је директни извор гликозил остатака са активисаном 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групом н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1 атом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нзим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икоген синтаза (глукозил трансфераз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) преноси активисани глукозил остатак на нередукујући крај гликогена и катализује настанак α-1,4-гликозидне везе, између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1 активног глукозил остатка и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4 терминалне глукозе ланца гликогена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2052720" y="3657600"/>
            <a:ext cx="50385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ГЛИКОГЕНЕЗ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848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609480" y="988920"/>
            <a:ext cx="8001000" cy="5722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ГЛИКОГЕНЕЗ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Тако се молекул гликогена продужио за један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молекул глукоз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онављајућим деловањем ензима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гликоген синтаз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увећава се основни ланац гликоген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до дужине од најмање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11 глукозил остатак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Тада су створен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услови з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дејство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ензима гранањ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гликогена,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који преноси најмање 6 глукозил остатак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и формир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рачву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ланца гликоген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α-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1,6-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гликозидном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везом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Захваљујућ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дејству овог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ензим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молекул гликогена је изразито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рачвас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ГЛИКОГЕНЕЗ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6" name="Content Placeholder 3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00"/>
                </a:solidFill>
                <a:uFillTx/>
                <a:latin typeface="Arial"/>
              </a:rPr>
              <a:t>ГЛИКОГЕНОЛИЗА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351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395280" y="849240"/>
            <a:ext cx="8353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роцес разлагањ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гликогена,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ГЛИКОГЕНОЛИЗ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тј.  мобилизација депонованих молекула глукозе из гликогена је сложен,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нзимски катализован процес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икоген је у организму човека присутан у свим ћелијама, али га највише има 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јетри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 мишићима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(до 5% тежине јетре и око 0,5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-1% мишићне масе)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Гликоген јетре учествује у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државању гликемије, док гликоген мишића служи као извор енергије самих м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шића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икогенолиза је катализована бројним ензимима, а први у низу је фосфорилаза (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икоген фосфорилаз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), која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раскида α-1,4-гликозидну вез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.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Фосфорилазе јетре и мишића, иако имају исту функцију, донекле се разликују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85690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икоген фосфорилаза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јетр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се јавља у два облика: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икоген фосфорилаза а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је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активн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облик,а 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гликоген фосфорилаза б</a:t>
            </a:r>
            <a:r>
              <a:rPr b="1" lang="sr-R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је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 неактивни облик.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2. Гликоген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фосфорилаз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мишића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је функционално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личн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стоименим ензимом јетре, али се имунолошки и генетски значајно разликују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икоген фосфорилаза је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димер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вака подјединица садржи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пиридоксал-фосфат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. Активни су само димерни облици ензима.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Гликоге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7929360" cy="3070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228600" y="457200"/>
            <a:ext cx="8713800" cy="27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икоген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ј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хомополимер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глукозе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ј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је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примарна функција да организму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безбеди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“брзу” енергију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Резерва угљених хидрата за регулисање гликемије у људском организм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179280" y="1051200"/>
            <a:ext cx="8964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Разградња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икоген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п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ње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дејством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активиране гликоген фосфорилазе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(у м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м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у јетри). Пр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томе се де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ва фосфорилит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а разградња тј. уво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олекула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еорганск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ог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фосфора.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идањем алфа-1,4 гликозидних веза из гликогена се,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а нередукују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г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раја, одвај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одговарају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 број молекула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глукозо-1 фосфата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Glikogen (n) + Pi &lt;-----&gt;Glikogen (n-1) + Glukozo-1-fosf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2124000" y="3886200"/>
            <a:ext cx="4824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52280"/>
          <a:ext cx="8915400" cy="6553440"/>
        </p:xfrm>
        <a:graphic>
          <a:graphicData uri="http://schemas.openxmlformats.org/drawingml/2006/table">
            <a:tbl>
              <a:tblPr/>
              <a:tblGrid>
                <a:gridCol w="685800"/>
                <a:gridCol w="1757520"/>
                <a:gridCol w="1923840"/>
                <a:gridCol w="4548240"/>
              </a:tblGrid>
              <a:tr h="39060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рс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зи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достатак ензим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линичка сл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174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_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ликоген синта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ипогликемија; хиперкетонемија; рана смр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1616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on Gierke-ова болес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лукозо-6-фосфата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акупљање гликогена у јетри и бубрежним тубулима; хипогликемија; лактатн аацидоза; кетоза; хиперлипидемиј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7426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_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анспортер глукозо-6-фосфата у ендоплазматски ретикулу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као тип Ia; неутропенија и смањена функција неутрофила која доводи до повратних инфекциј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60660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мпеова болес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лизозомска α1,4 и  α1,6 глукозида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акупљање гликоген ау лизозомима: јувенилни облик, мишићна хипотонија, смрт због срчаног застоја пре друге године; адултни облик, мишићна дистрофиј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1580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орбеова или Коријева болес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ензим дегранањ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ипогликемија у гладовању; хепатомегалија у детињству; накупљање карактеристичних разгранатих полисахарид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502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лимитирана декстрино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јетрени ензим гранањ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као тип IIIa, али без мишићне слаб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5428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ндерсенова болес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ензим гранањ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епатоспленомегалија; накупљање полисахарида с малим бројем места гранања; смрт због затајења срца или оштећење јетре у првој години живо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5572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c Ardle-ов синдро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мишићна фосфорила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лабо подношење мишићне активности; абнормално  висок висок мишићни гликоген (2,5-4%); ниска концентрација лактата у крви након вежбањ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1580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ерсова болес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јетрена фосфорила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епатомегалија; накупљање гликогена у јетри; умерена хипогликемија; добра прогно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5572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I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аруова болес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мишићна и еритроцитна фосфофруктокиназа-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лабо подношење мишићне активности; абнормално висок мишићни гликоген (2,5-4%); ниска концентрација лактата у крви након вежбања; хемолитичка анемиј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1760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II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јетрена фосфорилаза-кина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епатомегалија; накупљање гликогена у јетри; умерена хипогликемија; генерално добра прогно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5792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јетрена и мишићнафосфорилаза-кина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епатомегалија; накупљање гликогена у јетри и мишићима; умерена хипогликемија; генерално добра прогно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4380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АМР- зависна протеин киназ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епатомегалија; накупљање гликогена у јетри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  <p:sp>
        <p:nvSpPr>
          <p:cNvPr id="184" name="Rectangle 1"/>
          <p:cNvSpPr/>
          <p:nvPr/>
        </p:nvSpPr>
        <p:spPr>
          <a:xfrm>
            <a:off x="1971720" y="1589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886e0"/>
                </a:solidFill>
                <a:latin typeface="Arial"/>
              </a:rPr>
              <a:t> 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кр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вање ланца полимера гликогена те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све до оног тренутка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док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е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е прибл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 месту гранања главног ланц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тј. месту где је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алфа-1,6 гликозидн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 вез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на растојањ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од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4 гликозил остатк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a886e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Тада делује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ензим трисахарид трансфераза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оја трисахарадни сегмент преноси на главни ланац, који се проду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ва.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a886e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осле преме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тања три гликозил остатка, место гранања је доступно дејств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ензима дегранања (амило-1,6-глукозидаза)</a:t>
            </a:r>
            <a:r>
              <a:rPr b="1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оји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ид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алфа-1,6 гликозидну везу. То се одвија хидролити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им путем,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добија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 се 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молекул Д-глукоз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 не глукоз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1-фосфат.</a:t>
            </a:r>
            <a:r>
              <a:rPr b="0" lang="en-AU" sz="2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8883n23_15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60624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898200" y="189000"/>
            <a:ext cx="24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ffff00"/>
                </a:solidFill>
                <a:latin typeface="Arial"/>
              </a:rPr>
              <a:t>Трисахарид трансфераз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700360" y="5950080"/>
            <a:ext cx="2303280" cy="307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ffff00"/>
                </a:solidFill>
                <a:latin typeface="Arial"/>
              </a:rPr>
              <a:t>Гликоген фосфорилаз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50840" y="762120"/>
            <a:ext cx="518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олекул глукозо-1-фосфат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нити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да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апусти интр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лијски простор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пре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у крв, нити м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директно да се користи као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нергетски материјал, јер се не разл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гликолизом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Зато је неопходно да се под дејством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фосфоглукомутазе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реведе у глукозо-6-фосфат који м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да се укљу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 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иколизу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укозо-6-фосфат се м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прикљу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ти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пентозо-фосфатном пут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реко ензима 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глукозо-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-дехидрогеназ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до стварање 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NADPH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 пентоза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5334120" y="1295280"/>
            <a:ext cx="3394080" cy="3888000"/>
            <a:chOff x="5334120" y="1295280"/>
            <a:chExt cx="3394080" cy="3888000"/>
          </a:xfrm>
        </p:grpSpPr>
        <p:pic>
          <p:nvPicPr>
            <p:cNvPr id="191" name="Picture 4" descr=""/>
            <p:cNvPicPr/>
            <p:nvPr/>
          </p:nvPicPr>
          <p:blipFill>
            <a:blip r:embed="rId1"/>
            <a:srcRect l="0" t="22116" r="53132" b="38069"/>
            <a:stretch/>
          </p:blipFill>
          <p:spPr>
            <a:xfrm>
              <a:off x="5334120" y="1511280"/>
              <a:ext cx="3394080" cy="33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Oval 7"/>
            <p:cNvSpPr/>
            <p:nvPr/>
          </p:nvSpPr>
          <p:spPr>
            <a:xfrm>
              <a:off x="6126120" y="4103640"/>
              <a:ext cx="2590920" cy="107964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3" name="Oval 8"/>
            <p:cNvSpPr/>
            <p:nvPr/>
          </p:nvSpPr>
          <p:spPr>
            <a:xfrm>
              <a:off x="7421760" y="1295280"/>
              <a:ext cx="792000" cy="64764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228600" y="380880"/>
            <a:ext cx="8915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. У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ЈЕТРИ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ањој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ер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у бубрезима (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 МИ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ИМА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алази се ензим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укозо-6-фосфатаз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оји разл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дефосфорилише)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глукозо-6-фосфат до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укоз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, која одлази у циркулацију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за одржавање гликемиј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5" name="Group 10"/>
          <p:cNvGrpSpPr/>
          <p:nvPr/>
        </p:nvGrpSpPr>
        <p:grpSpPr>
          <a:xfrm>
            <a:off x="380880" y="2743200"/>
            <a:ext cx="8137440" cy="3384360"/>
            <a:chOff x="380880" y="2743200"/>
            <a:chExt cx="8137440" cy="3384360"/>
          </a:xfrm>
        </p:grpSpPr>
        <p:pic>
          <p:nvPicPr>
            <p:cNvPr id="196" name="Picture 5" descr=""/>
            <p:cNvPicPr/>
            <p:nvPr/>
          </p:nvPicPr>
          <p:blipFill>
            <a:blip r:embed="rId1"/>
            <a:srcRect l="0" t="38555" r="0" b="42183"/>
            <a:stretch/>
          </p:blipFill>
          <p:spPr>
            <a:xfrm>
              <a:off x="664560" y="3057480"/>
              <a:ext cx="785376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Oval 8"/>
            <p:cNvSpPr/>
            <p:nvPr/>
          </p:nvSpPr>
          <p:spPr>
            <a:xfrm>
              <a:off x="380880" y="2743200"/>
              <a:ext cx="3690000" cy="141660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Oval 9"/>
            <p:cNvSpPr/>
            <p:nvPr/>
          </p:nvSpPr>
          <p:spPr>
            <a:xfrm>
              <a:off x="1234080" y="4789440"/>
              <a:ext cx="2932560" cy="13381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Веза  гликогенезе и гликогенолизе са     осталим метаболичким путевим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12800" y="1844280"/>
            <a:ext cx="84312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Гликоген се разграђује и настаје из глукозо 1 фосфата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2. Глукозо-1-фосфат до глукозе-6-фосфат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(фосфоглукомутазна реверзибилна реакциј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3. Од глукозо-6-фосфата до глукозе (само ЈЕТРА и БУБРЕЗИ </a:t>
            </a:r>
            <a:r>
              <a:rPr b="0" lang="en-AU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за циркулацију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4. Глукозо-6-фосфат из глукозе преко киназа (хексокиназе или глукокиназе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5. Од глукозо-6-фосфата до и од гликолизе (катаболизам) и глуконеогенезу (анаболизам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6. Од глукозо-6-фосфата до пентозног пута (нереверзибилно) за редукујуће агенсе  (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NADPH)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и рибозу за нуклеинске киселин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Алостеријска регулација гликоген фосфорилазе</a:t>
            </a: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5010120" cy="18097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539640" y="292104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00"/>
                </a:solidFill>
                <a:latin typeface="Arial"/>
              </a:rPr>
              <a:t>Инактивна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форма гли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ког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ен фосфорилазе се јо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 назива</a:t>
            </a:r>
            <a:r>
              <a:rPr b="0" lang="en-AU" sz="1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ffff00"/>
                </a:solidFill>
                <a:latin typeface="Arial"/>
              </a:rPr>
              <a:t>Т-форма</a:t>
            </a:r>
            <a:r>
              <a:rPr b="0" lang="en-AU" sz="1800" spc="-1" strike="noStrike">
                <a:solidFill>
                  <a:srgbClr val="ffff00"/>
                </a:solidFill>
                <a:latin typeface="Arial"/>
              </a:rPr>
              <a:t> (tense)</a:t>
            </a:r>
            <a:r>
              <a:rPr b="0" lang="en-AU" sz="1800" spc="-1" strike="noStrike">
                <a:solidFill>
                  <a:srgbClr val="a886e0"/>
                </a:solidFill>
                <a:latin typeface="Arial"/>
              </a:rPr>
              <a:t> ,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док активна форма је добилa име</a:t>
            </a:r>
            <a:r>
              <a:rPr b="0" lang="en-AU" sz="1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Р-фoрмa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(relax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AMP</a:t>
            </a:r>
            <a:r>
              <a:rPr b="1" lang="en-AU" sz="1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се нормално везује за</a:t>
            </a:r>
            <a:r>
              <a:rPr b="0" lang="en-AU" sz="1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ff00"/>
                </a:solidFill>
                <a:latin typeface="Arial"/>
              </a:rPr>
              <a:t>инактивну Т-форму фосфорилазе-б</a:t>
            </a: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Везивањeм AMP-a долази до комформационих промена код фосфoрилазе-б ,такo да прелази у Р-фoрму или активну фoрму –</a:t>
            </a:r>
            <a:r>
              <a:rPr b="0" lang="en-AU" sz="1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ff00"/>
                </a:solidFill>
                <a:latin typeface="Arial"/>
              </a:rPr>
              <a:t>БЕЗ ФОСФОРИЛАЦИЈ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Овај алостеријски ефeкaт AMP је неопходан за енергетскe потрeбe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ЕЛИЈ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00"/>
                </a:solidFill>
                <a:latin typeface="Arial"/>
              </a:rPr>
              <a:t>Глукоза алостеријски инхибира фосфорилазу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тако активира трансформацију активне Т-форме у инактивну Р-форм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Алостеријска регулација гликоген синтазе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392960" cy="17254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501480" y="3716280"/>
            <a:ext cx="8642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ове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но акумулирање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гликозе-6-фосфат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долази до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активациј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гликоген синтаз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трансформације глукозе-6-фосфата у гликоген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укоза–6-фосфат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се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лостеријски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везује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за фосфорилисану инактивну гликоген синтазу-д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трансформ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у активну фосфорилисану гликоген-синтазу (без дефосфорилације)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360" y="-30492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Регулација гликогенезе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гликогенолизе</a:t>
            </a:r>
            <a:r>
              <a:rPr b="0" lang="sr-Latn-B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ковалентним модификацијам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93960" y="1218960"/>
            <a:ext cx="5808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a886e0"/>
                </a:solidFill>
                <a:latin typeface="Arial"/>
              </a:rPr>
              <a:t>        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Фосфорилација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дефосфорилација гликоген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синтазе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анаболизам гликогена)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гликоген-фосфорилазе (катаболизам гликоген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Постоје два облика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икоген синтазе: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фосфорилисани, или неактивни облик – 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дефосфорилисани, тј. активни облик - и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Ова два облика могу да прелазе један у  друг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У физиолошким условима синтеза гликогена зависи од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икоген синтазе -и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која настаје из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икоген синтазе -д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деловањем два ензима: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протеин фосфатазе и протеин киназе-А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5638680" y="1773360"/>
            <a:ext cx="35053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СТРУКТУРА ГЛИКОГЕН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1519200" y="1676520"/>
            <a:ext cx="6105600" cy="42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Постоје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два облика гликоген фосфорилазе: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46483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фосфорилисани, или активан облик – 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дефосфорилисани, тј. неактивни облик - б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Ова два облика могу да прелазе један у  друг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У физиолошким условима разградња гликогена зависи од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гликоген фосфорилазе а</a:t>
            </a:r>
            <a:r>
              <a:rPr b="1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која настаје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из гликоген синтазе -б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деловањем два ензима: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протеин фосфатазе и фосфорилазе киназе-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029200" y="1447920"/>
            <a:ext cx="4114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Хормонска регулација</a:t>
            </a:r>
            <a:r>
              <a:rPr b="0" lang="en-AU" sz="4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Глукагон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и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епинефрин (адреналин)</a:t>
            </a: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Хепатоцити поседују α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1 и β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2 рецепторе за катехоламине, као и рецепторе за глукаго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Поједини протеински хормони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епинефрин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 глу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агон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мобил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у гликоген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активирају гликогенолизу тако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то се везују за своје рецепторе са екстр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елијске стране плазма мембран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По везивању хормона за свој рецептор,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аденилат циклаза</a:t>
            </a:r>
            <a:r>
              <a:rPr b="1" lang="en-AU" sz="2000" spc="-1" strike="noStrike">
                <a:solidFill>
                  <a:srgbClr val="a886e0"/>
                </a:solidFill>
                <a:latin typeface="Arial"/>
              </a:rPr>
              <a:t>,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мембрански ензим, се активира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катализује синтезу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цикли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ног АМП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3',5'-АМП) из АТП-а</a:t>
            </a: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a886e0"/>
                </a:solidFill>
                <a:latin typeface="Arial"/>
              </a:rPr>
              <a:t>                              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ATP --&gt; cAMP + PPi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Цикли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ни АМП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активира протеин киназу А</a:t>
            </a:r>
            <a:r>
              <a:rPr b="1" lang="en-AU" sz="20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која регул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е инактивацију гликоген синтазе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инхибицију гликогенезу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активацију фосфорилазе киназе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активацију гликогенолиз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Дакле, за време гладовања (глукагон) или у стресним ситуацијама (епинф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ин) ,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ер који се налази као резерва у гликогену се мобили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е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користи као гориво у организм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324000" y="808560"/>
            <a:ext cx="8820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 u="sng">
                <a:solidFill>
                  <a:srgbClr val="ffff00"/>
                </a:solidFill>
                <a:uFillTx/>
                <a:latin typeface="Arial"/>
              </a:rPr>
              <a:t>Инсулин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зр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ва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нтагонист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и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фекат , супротан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ефекту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дреналина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Инсулин фаворизује тало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ење гликогена као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ерне резерве тако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то активира синтезу гликогена (гликогенезу)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и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инх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бира деградацију гликогена (гликогенолизу)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осле везивања за свој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тирозин-киназни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рецептор, инсулин активира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тирозин киназ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оја је везана за инсулински рецептор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то доводи до активације разли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тих сигналних трансдукционих путева који , на крају,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активирају протеин фосфатазу 1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ротеин фосфатаза 1 се </a:t>
            </a: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одваја од фосфорилазе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катализује дефосфорилацију гликоген синтазе до њене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активне форме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фаворизује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синтезу гликоген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4848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250920" y="1341360"/>
            <a:ext cx="889308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Калцијум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Јо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За α1 рецeптоre хепатоцита везујe сe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норадреналин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, штo пoкрећe мобилизациј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Ca 2+ из митохондрија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,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 пораст концентрације овог катјона активира калмодулинску компoненту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инaзе.</a:t>
            </a: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наза фосфорилише гликоген фосфорилазу б, у активни облик, што води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разлагању гликоген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. Сл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о цикл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ом AMP-u, Ca2+ делује као секундарни гласник који активира м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у фосфорилазу киназ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Дејство Ca2+ на фосфорилазу киназу  фаворизује гликогенолиз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78168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962720" y="330120"/>
            <a:ext cx="48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лукоза у крви: 3,5 - 6,3 mmol/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221120" y="1152360"/>
            <a:ext cx="73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гљенихидрат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 хране одр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ју концентрациј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лукозе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ликемиј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по неколико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са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4495680" y="2209680"/>
            <a:ext cx="0" cy="914400"/>
          </a:xfrm>
          <a:prstGeom prst="line">
            <a:avLst/>
          </a:prstGeom>
          <a:ln w="5724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89720" y="3357720"/>
            <a:ext cx="897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градња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ликогена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у јетри</a:t>
            </a:r>
            <a:r>
              <a:rPr b="0" lang="sr-Latn-C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залихе се исцрпљују након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4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4495680" y="3962520"/>
            <a:ext cx="0" cy="914400"/>
          </a:xfrm>
          <a:prstGeom prst="line">
            <a:avLst/>
          </a:prstGeom>
          <a:ln w="5724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941760" y="4916520"/>
            <a:ext cx="780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р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ње гликемије зависи од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синтез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лукозе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де но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роцесом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ЛУКОНЕОГЕНЕЗЕ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у јетр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122120" y="476280"/>
            <a:ext cx="634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ТАЊА У КОЈИМА СЕ ИНТЕЗИВНО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РО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 ГЛУКО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250920" y="21337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Гладовањ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тр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се резерве глукоз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езак физи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напо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мобил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се липиди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угљенихидрати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тресна ста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364480" y="297000"/>
            <a:ext cx="35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ГЛУКОНЕОГЕНЕ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35576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0" y="907920"/>
            <a:ext cx="9058320" cy="70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Глуконеогенеза</a:t>
            </a:r>
            <a:r>
              <a:rPr b="1" lang="en-AU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је процес синтезе глукозе из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99cc"/>
                </a:solidFill>
                <a:latin typeface="Arial"/>
              </a:rPr>
              <a:t> 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неугљенохидратних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компоненти</a:t>
            </a: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ајв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ији извори су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пируват (гликолиза)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лактат (анаеробн</a:t>
            </a:r>
            <a:r>
              <a:rPr b="0" lang="sr-CS" sz="2200" spc="-1" strike="noStrike" u="sng">
                <a:solidFill>
                  <a:srgbClr val="ffff00"/>
                </a:solidFill>
                <a:uFillTx/>
                <a:latin typeface="Arial"/>
              </a:rPr>
              <a:t>и продукт гликолизе)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као и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 глицерол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(масно ткиво - из липида),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амино киселине (разградња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ми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них протеина - аланин, серин,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 глицин, валин, аргинин итд.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Главне улазне т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ке за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глуконеогенезу су 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Пируват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Оксалацетат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Дихидроацетон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-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фосфат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0" name="Picture 5" descr="gluconeo"/>
          <p:cNvPicPr/>
          <p:nvPr/>
        </p:nvPicPr>
        <p:blipFill>
          <a:blip r:embed="rId1"/>
          <a:stretch/>
        </p:blipFill>
        <p:spPr>
          <a:xfrm>
            <a:off x="5580000" y="4149720"/>
            <a:ext cx="32749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252440" y="372960"/>
            <a:ext cx="73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упстрати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рекурсори Глуконеогене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-1800" y="1413000"/>
            <a:ext cx="9460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Већина </a:t>
            </a:r>
            <a:r>
              <a:rPr b="0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међупроизвода циклуса трикарбонских киселин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мож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да послужи као полазни материјал глуконеогенез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ви ти међупроизводи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разлажу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е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циклусом трикарбонк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лни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х</a:t>
            </a:r>
            <a:r>
              <a:rPr b="0" lang="en-A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киселин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до </a:t>
            </a: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оксалацетата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а овај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с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укључује 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глуконеогенез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оједине </a:t>
            </a:r>
            <a:r>
              <a:rPr b="0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аминокиселине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(аланин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трансаминацијом у ми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им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(Глукоза-Аланин циклус)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дај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безазотни остатак типа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пирува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486400" y="365760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ГЛИКОГЕН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римарно се синтет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у јетри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ма, мада м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гу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да га синтет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мозак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материца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алог биљном скробу, п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сто зову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вотињски скроб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У цитоплазми се налази у облику гранул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игра веома в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ну улогу у ц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кл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усу глукозе  у јетри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ликоген формира енергетске резерве које м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гу врло брзо да се разл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до глукозе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искористе у организму, ако су потребе за глукозом пове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н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195200" y="189000"/>
            <a:ext cx="73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упстрати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рекурсори Глуконеогене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5435640" y="1052640"/>
            <a:ext cx="3124080" cy="30477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0" y="923760"/>
            <a:ext cx="8821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Лактат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из крви се трансформ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е 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глукозу у јетри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у тз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Коријевом циклус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Коријев циклус је кружење лактат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који настај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у мишићим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анаеробној гликолиз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Лактат дифундује у крвоток, а затим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о јетре.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Јетра трансформише лактат у пируват, а затим у глукоз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Настал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глукоза се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враћа у крвоток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одакл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може да буде искор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шћ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ена од стран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мишићних ћелиј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ускладиштена као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гликоге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980280" y="62064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упстрати-Прекурсори Глуконеогене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0" y="1413000"/>
            <a:ext cx="9144000" cy="40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Глицерол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(добијен разградњом тр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ацилг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ицер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ол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а у масном ткиву) се директно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ористи за синтезу глукозе и то фосфорилацијом до 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глицерол-3 –фосфата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помоћу   </a:t>
            </a:r>
            <a:r>
              <a:rPr b="0" lang="sr-CS" sz="2000" spc="-1" strike="noStrike" u="sng">
                <a:solidFill>
                  <a:srgbClr val="ffff00"/>
                </a:solidFill>
                <a:uFillTx/>
                <a:latin typeface="Arial"/>
              </a:rPr>
              <a:t>глицерол киназе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и   дехидрогенацијом до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дихидроацетат  фосфата (DHAP)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омоћу глицерол-3-фосфат дехидрогеназ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ицерол киназ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је ензим присутан у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јетри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ми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има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бубрезим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НЕ у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Масном ткиву!!!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395280" y="4586400"/>
            <a:ext cx="84247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250920" y="1587600"/>
            <a:ext cx="4038480" cy="52704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"/>
          <p:cNvSpPr/>
          <p:nvPr/>
        </p:nvSpPr>
        <p:spPr>
          <a:xfrm>
            <a:off x="396000" y="476280"/>
            <a:ext cx="844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Супстрати за глуконеогенезу се укљу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ју у процес САМ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 одре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ђ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еним мести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176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250360" y="371520"/>
            <a:ext cx="44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ГЛУКОНЕОГЕНЕЗ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250920" y="1484280"/>
            <a:ext cx="9186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главном се одвија у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ЈЕТРИ и бубре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зима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(1/10 због мање масе бубрег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e5e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рло мало</a:t>
            </a: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 у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мозг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келетним ми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м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р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аном ми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супрот синтези,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мозак и скелетни ми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су најв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трошачи глуко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1752480" y="157320"/>
            <a:ext cx="589752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79280" y="476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Гликолиза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није реверзибилан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процес, због 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баријера</a:t>
            </a:r>
            <a:r>
              <a:rPr b="0" lang="en-A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кој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онемогућавају просту реверзију,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од пирувата, или лактат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до глукозе.</a:t>
            </a:r>
            <a:r>
              <a:rPr b="0" lang="en-A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Три иреверзибилне реакције гликолиз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су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522360" y="3124080"/>
            <a:ext cx="8440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глукоз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гликозо-6-фосфа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хексокиназа</a:t>
            </a:r>
            <a:r>
              <a:rPr b="0" lang="en-A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фруктозо-6-фосфата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фруктозо-1,6-дифосфат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фосфофруктокиназа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cc0000"/>
                </a:solidFill>
                <a:latin typeface="Arial"/>
              </a:rPr>
              <a:t>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фосфоенолпируват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пируват.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пируват киназ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2057400" y="33526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Line 5"/>
          <p:cNvSpPr/>
          <p:nvPr/>
        </p:nvSpPr>
        <p:spPr>
          <a:xfrm>
            <a:off x="3809880" y="426708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3657600" y="5181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5580000" y="1066680"/>
            <a:ext cx="3564000" cy="57913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77040" y="298440"/>
            <a:ext cx="9077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ве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три баријер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су премостиве, уз присуство одговарајућих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ензима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Пируват киназ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“замењују” ензим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Пируват карбоксилаза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ПЕП карбокси киназ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Фосфофруктокиназ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1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“замењује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ензим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фру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тоз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1,6- би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фосфат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Хексонизу “замењује” ензим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гл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коз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о-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6-фосфат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685800" y="0"/>
            <a:ext cx="756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рва заобилазна реакција глуконеогенез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Конверзија пирувата у фосфоенолпируват-ПЕП</a:t>
            </a:r>
            <a:r>
              <a:rPr b="0" lang="en-AU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-3240" y="1593720"/>
            <a:ext cx="9047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ошто пируват високоенергетски органофосфат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не постоји могућност директне конверзиј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фосфоенолпирува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играва се у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два корака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Карбоксилација пирувата у оксалоацетат -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ИРУВАТ КАРБОКСИЛ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Декарбоксилација и фосфорилација оксалацетата у ПЕП 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ФОСФОЕНОЛПИРУВАТ - КАРБОКСИКИН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-8280" y="345960"/>
            <a:ext cx="82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ПИРУВАТ КАРБОКСИЛАЗА</a:t>
            </a: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садр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простет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у групу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БИОТИ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1752480" y="1019160"/>
            <a:ext cx="5543640" cy="65736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0" y="2066760"/>
            <a:ext cx="105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рво, пируват прелази у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митохондрије хепатоцита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, ил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тубулоцита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 затим следи карбоксилациј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2"/>
          <a:stretch/>
        </p:blipFill>
        <p:spPr>
          <a:xfrm>
            <a:off x="914400" y="3297240"/>
            <a:ext cx="6781680" cy="512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PyrCarbBiotinLehn4fig14-17a"/>
          <p:cNvPicPr/>
          <p:nvPr/>
        </p:nvPicPr>
        <p:blipFill>
          <a:blip r:embed="rId3"/>
          <a:stretch/>
        </p:blipFill>
        <p:spPr>
          <a:xfrm>
            <a:off x="2743200" y="41148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726240" cy="18702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"/>
          <p:cNvSpPr/>
          <p:nvPr/>
        </p:nvSpPr>
        <p:spPr>
          <a:xfrm>
            <a:off x="974880" y="254160"/>
            <a:ext cx="75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ИРУВАТ КАРБОКСИЛАЗА - механизам реакциј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2"/>
          <a:stretch/>
        </p:blipFill>
        <p:spPr>
          <a:xfrm>
            <a:off x="5724360" y="2852640"/>
            <a:ext cx="3200400" cy="36576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154440" y="3213000"/>
            <a:ext cx="53791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Карбокси БИОТИ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је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активиран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носик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икарбоната 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руват (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уз присуство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Mg </a:t>
            </a:r>
            <a:r>
              <a:rPr b="1" lang="en-AU" sz="24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ацетил-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oA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настаје оксалацета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14621" t="0" r="17138" b="0"/>
          <a:stretch/>
        </p:blipFill>
        <p:spPr>
          <a:xfrm>
            <a:off x="4876920" y="1446120"/>
            <a:ext cx="4020840" cy="4343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228600" y="1295280"/>
            <a:ext cx="4176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Хепатоцити садр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око 10% гликогена одмах после оброка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 садр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око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¾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укупног гл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когена у организму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а кол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на се м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н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 у бубрезима, у мозгу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у леукоцитим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Материца тако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ствара резерве гликогена за време трудно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е за потребе фетуса</a:t>
            </a:r>
            <a:r>
              <a:rPr b="0" lang="en-AU" sz="2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639040" cy="39542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3"/>
          <p:cNvSpPr/>
          <p:nvPr/>
        </p:nvSpPr>
        <p:spPr>
          <a:xfrm>
            <a:off x="685440" y="923760"/>
            <a:ext cx="81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Доме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ируват карбоксилазе које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езује биоти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адр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татке амино киселине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лиз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3203640" cy="4932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3"/>
          <p:cNvSpPr/>
          <p:nvPr/>
        </p:nvSpPr>
        <p:spPr>
          <a:xfrm>
            <a:off x="2160" y="549360"/>
            <a:ext cx="8845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луконеогенеза зап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ње у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митохондријам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ставља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цитоплазм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 настали оксалоацета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пролази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кроз унутрашњ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мембрану митохондриј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а,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рво с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редукује у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малат у матрикс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митоходнриј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Оксалоацетат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се редукуј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у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малат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деловањем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митохондријалне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мала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дехидрогеназе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(НАДХ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3. Малат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е избацује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из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митохондриј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на принципу његов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јонске замене са цитратом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973080" y="333360"/>
            <a:ext cx="72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интеза ПЕП - а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из оксалацетата преко мала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5796000" y="1700280"/>
            <a:ext cx="1800360" cy="5005440"/>
          </a:xfrm>
          <a:prstGeom prst="rect">
            <a:avLst/>
          </a:prstGeom>
          <a:noFill/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3195720" cy="65246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"/>
          <p:cNvSpPr/>
          <p:nvPr/>
        </p:nvSpPr>
        <p:spPr>
          <a:xfrm>
            <a:off x="74160" y="1289160"/>
            <a:ext cx="566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4. У цитосолу, дејством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цитозолне </a:t>
            </a:r>
            <a:br>
              <a:rPr sz="2400"/>
            </a:b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малат дехидрогеназе,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малат с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оксид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ује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у оксалацетат (NAD+)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5. Да би из оксалацетата наста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фосфоенолпируват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потребан ј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молекул гуанозинтрифосфата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(GTP).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Реакцију катализуј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фосфоенолпируват карбоксикиназа.</a:t>
            </a:r>
            <a:r>
              <a:rPr b="0" lang="en-AU" sz="2400" spc="-1" strike="noStrike">
                <a:solidFill>
                  <a:srgbClr val="0099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1862280" y="4762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нтеза ПЕП - а</a:t>
            </a:r>
            <a:r>
              <a:rPr b="1" lang="en-US" sz="2400" spc="-1" strike="noStrike">
                <a:solidFill>
                  <a:srgbClr val="0099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5651640" y="914400"/>
            <a:ext cx="1892160" cy="5410080"/>
          </a:xfrm>
          <a:prstGeom prst="rect">
            <a:avLst/>
          </a:prstGeom>
          <a:noFill/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928800" y="62064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ИРУВАТ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Line 3"/>
          <p:cNvSpPr/>
          <p:nvPr/>
        </p:nvSpPr>
        <p:spPr>
          <a:xfrm>
            <a:off x="3276720" y="981000"/>
            <a:ext cx="1871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5653440" y="6858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осфоенол-пирува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311120" y="3135240"/>
            <a:ext cx="6653160" cy="1973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ЦЕН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конверзије пирувата 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фосфоенолпирува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један молeкуl</a:t>
            </a:r>
            <a:r>
              <a:rPr b="1" lang="en-A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1" lang="en-A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и један молекул</a:t>
            </a:r>
            <a:r>
              <a:rPr b="1" lang="en-A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GTP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Пируват + ATP + GTP + H</a:t>
            </a:r>
            <a:r>
              <a:rPr b="1" lang="en-AU" sz="2400" spc="-1" strike="noStrike" u="sng" baseline="-25000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O ---&gt; ПЕП + ADP</a:t>
            </a:r>
            <a:r>
              <a:rPr b="1" lang="en-AU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2125440" y="1268280"/>
            <a:ext cx="52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ируват карбоксил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сфо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енол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ируват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арбоксикин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3505320" cy="53341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3"/>
          <p:cNvSpPr/>
          <p:nvPr/>
        </p:nvSpPr>
        <p:spPr>
          <a:xfrm>
            <a:off x="1332360" y="254160"/>
            <a:ext cx="68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Пут синтезе ПЕП из </a:t>
            </a: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пирувата преко лакта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6659640" y="1371600"/>
            <a:ext cx="2484360" cy="5334120"/>
          </a:xfrm>
          <a:prstGeom prst="rect">
            <a:avLst/>
          </a:prstGeom>
          <a:noFill/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2160" y="1206360"/>
            <a:ext cx="572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У случају када се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пируват добиј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оксидацијом лактата у цитосолу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(на слици са десне стране)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оксалацетат</a:t>
            </a: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е преводи у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фосфо-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енолпируват у митохондријима,</a:t>
            </a: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омоћу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митохондријске фосфоено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- пируват-карбоксикиназе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Будући да се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оксидацијом лактата 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цитосолу “осигурава” NADH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потребан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за глуконеогенезу, није потребн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ребацивање” NADH из митохондриј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у цитосол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411280" y="1125360"/>
            <a:ext cx="4321440" cy="54723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314280" y="260280"/>
            <a:ext cx="855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Реакције глуконеогенезе од ПЕП до синтезе фруктозо 1,6 бифосфат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су реверзибилне и идентичне реакцијама гликолиз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973400" y="2806560"/>
            <a:ext cx="168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Enolaza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Fosfoglicerat mutaza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2408040" y="4290840"/>
            <a:ext cx="160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Gliceraldehid fosfat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dehidrogenaza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2340000" y="2708280"/>
            <a:ext cx="4464000" cy="2160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1908000" y="2708280"/>
            <a:ext cx="0" cy="20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Line 8"/>
          <p:cNvSpPr/>
          <p:nvPr/>
        </p:nvSpPr>
        <p:spPr>
          <a:xfrm flipV="1">
            <a:off x="7164360" y="2708280"/>
            <a:ext cx="0" cy="216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Text Box 9"/>
          <p:cNvSpPr/>
          <p:nvPr/>
        </p:nvSpPr>
        <p:spPr>
          <a:xfrm rot="5400000">
            <a:off x="400680" y="34750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Глуконеоген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Text Box 10"/>
          <p:cNvSpPr/>
          <p:nvPr/>
        </p:nvSpPr>
        <p:spPr>
          <a:xfrm rot="16200000">
            <a:off x="6483960" y="324252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Гликоли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4916520" y="534672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Fosfoheksozo izomera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3419640" y="5084640"/>
            <a:ext cx="3744720" cy="865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971640" y="260280"/>
            <a:ext cx="74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99cc"/>
                </a:solidFill>
                <a:latin typeface="Arial"/>
              </a:rPr>
              <a:t>   </a:t>
            </a: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Друга заобилазна реакција глуконеогенез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ефосфорилација фруктозо-1,6-дифосфата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у фруктозо-6-фосфа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rcRect l="0" t="47944" r="0" b="0"/>
          <a:stretch/>
        </p:blipFill>
        <p:spPr>
          <a:xfrm>
            <a:off x="2743200" y="2514600"/>
            <a:ext cx="4191120" cy="183816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447480" y="1600200"/>
            <a:ext cx="805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Fructose 1,6-bisphosphate + H2O         Fructose 6-phosphate + P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34880" y="4508640"/>
            <a:ext cx="8861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За синтезу фруктозо-1,6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бис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фосфата потребна су полазна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дв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молекула фосфоенолпируват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Ензим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Фруктозо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1,6-би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фосфатаз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хидролитички уклања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ортофосфат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са C1 атома фруктозо-1,6-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бис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фосфат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даје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фруктозо-6-фосфа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056400" y="190512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sr-Latn-CS" sz="1600" spc="-1" strike="noStrike" u="sng">
                <a:solidFill>
                  <a:srgbClr val="ffffff"/>
                </a:solidFill>
                <a:uFillTx/>
                <a:latin typeface="Arial"/>
              </a:rPr>
              <a:t>Фруктозо </a:t>
            </a:r>
            <a:r>
              <a:rPr b="1" lang="en-AU" sz="1600" spc="-1" strike="noStrike" u="sng">
                <a:solidFill>
                  <a:srgbClr val="ffffff"/>
                </a:solidFill>
                <a:uFillTx/>
                <a:latin typeface="Arial"/>
              </a:rPr>
              <a:t>1,6 - бифосфатаза</a:t>
            </a:r>
            <a:r>
              <a:rPr b="0" lang="en-A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Line 7"/>
          <p:cNvSpPr/>
          <p:nvPr/>
        </p:nvSpPr>
        <p:spPr>
          <a:xfrm>
            <a:off x="44956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1115640" y="549360"/>
            <a:ext cx="708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Тре</a:t>
            </a:r>
            <a:r>
              <a:rPr b="1" lang="sr-CS" sz="2400" spc="-1" strike="noStrike" u="sng">
                <a:solidFill>
                  <a:srgbClr val="ffff00"/>
                </a:solidFill>
                <a:uFillTx/>
                <a:latin typeface="Arial"/>
              </a:rPr>
              <a:t>ћ</a:t>
            </a: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а заобилазна реакција глуконеогенез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Дефосфорилација глукозо-6-фосфата у глукозу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5257800" cy="184788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4"/>
          <p:cNvSpPr/>
          <p:nvPr/>
        </p:nvSpPr>
        <p:spPr>
          <a:xfrm>
            <a:off x="598680" y="3860640"/>
            <a:ext cx="8415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дејством ензима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укозо-6-фосфатазе,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кога има у великој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количини у </a:t>
            </a:r>
            <a:r>
              <a:rPr b="1" lang="en-AU" sz="2000" spc="-1" strike="noStrike" u="sng">
                <a:solidFill>
                  <a:srgbClr val="ffff00"/>
                </a:solidFill>
                <a:uFillTx/>
                <a:latin typeface="Arial"/>
              </a:rPr>
              <a:t>јетри и бубрезима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(ендоплазматски ретикулум ЕР)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укоз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-6-фосфат</a:t>
            </a: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се хидролитицки дефосфорил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у глукоз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Глукоза напушта ћелијску средину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хепатоцита, или тубулоцит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одлази у циркулацију. Глукоз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-6-фосфатаз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се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НЕ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налази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у </a:t>
            </a:r>
            <a:r>
              <a:rPr b="1" lang="en-AU" sz="2000" spc="-1" strike="noStrike" u="sng">
                <a:solidFill>
                  <a:srgbClr val="ffff00"/>
                </a:solidFill>
                <a:uFillTx/>
                <a:latin typeface="Arial"/>
              </a:rPr>
              <a:t>масном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 u="sng">
                <a:solidFill>
                  <a:srgbClr val="ffff00"/>
                </a:solidFill>
                <a:uFillTx/>
                <a:latin typeface="Arial"/>
              </a:rPr>
              <a:t>ткиву и скелетним мишићима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, тако да наведена ткива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не утичу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н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регулисање гликемије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1692360" y="3284640"/>
            <a:ext cx="5491080" cy="20844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"/>
          <p:cNvSpPr/>
          <p:nvPr/>
        </p:nvSpPr>
        <p:spPr>
          <a:xfrm>
            <a:off x="1452600" y="720720"/>
            <a:ext cx="679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Настанак глукозе из глукозе-6-фосфа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250920" y="1700280"/>
            <a:ext cx="91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фосфорилација глукоз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6-фосфа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припрем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глукоз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за  експорт ван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елиј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укљ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је активацију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л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тих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трансмембранских протеи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м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них у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мембрани ЕР-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Т1, Т2, Т3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453600" y="5754600"/>
            <a:ext cx="83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лукоз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-6-фосфатаз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е налази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само у ЈЕТР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мање 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убрезима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НЕ У МИ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ИМ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323640" y="533520"/>
            <a:ext cx="88189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Енергетски ефекти глуконеогенезе</a:t>
            </a:r>
            <a:r>
              <a:rPr b="0" lang="en-A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Збирна реакција конверзије пирувата у глукозу приказана ј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једначином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2 пируватa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+ 4 ATP + 2 GTP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+ 2NADH + 6 H2O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Глукоза</a:t>
            </a: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+ 4 ADP + 2 GDP + 6 P i +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2NAD+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+ 2H+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447840" y="4038480"/>
            <a:ext cx="8696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У енергетском смислу, чини се да је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уконеогенеза расипнички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процес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, пошто се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троше 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НЕТО 4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молекуле високоенергетских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Фосфата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sr-Latn-CS" sz="2000" spc="-1" strike="noStrike" u="sng">
                <a:solidFill>
                  <a:srgbClr val="ffff00"/>
                </a:solidFill>
                <a:uFillTx/>
                <a:latin typeface="Arial"/>
              </a:rPr>
              <a:t>6 АТП - синтеза глукозе – 2АТП разградњом глукозе)</a:t>
            </a:r>
            <a:r>
              <a:rPr b="0" lang="sr-Latn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Међутим, у организму постоје одређене ситуације, као што ј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претећа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хипогликемија,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или када настаје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прекомерно ослобађањ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лактата,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када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глукоза мора да се синтетише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, чак и по цену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енергетског дефици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diabetes-glucose-regul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182880" y="549360"/>
            <a:ext cx="49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Регулација Глуконеогене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724360" y="1052640"/>
            <a:ext cx="3419640" cy="45370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80360" y="1628640"/>
            <a:ext cx="49554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Регулација глуконеогенез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је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реципрочна у односу 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регулацију гликолизе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, тако 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е ова два метаболичка пу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не могу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одвијати истовреме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-10080" y="4437000"/>
            <a:ext cx="787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ffff00"/>
                </a:solidFill>
                <a:uFillTx/>
                <a:latin typeface="Arial"/>
              </a:rPr>
              <a:t>Фруктоза-1,6-бисфосфат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MP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инхибира фруктозу-1,6 бисфосфатаз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Цитрат активира фруктозу-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1,6-бисфосфатаз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Фруктоза 2,6 бифосфат инхибира фруктозу-1,6-бисфосфатазу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1984680" y="220680"/>
            <a:ext cx="49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Регулација Глуконеогене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-747000" y="3284640"/>
            <a:ext cx="6383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ADP инхибир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ируват карбоксилаз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Acetil-Co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активи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ируват карбоксилаз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ADP инхибир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фосфоенол пирува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карбоксилаз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4114800" cy="43704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5"/>
          <p:cNvSpPr/>
          <p:nvPr/>
        </p:nvSpPr>
        <p:spPr>
          <a:xfrm>
            <a:off x="264240" y="1341360"/>
            <a:ext cx="37209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Пируват карбоксилаза 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фосфоенол пирува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карбо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ксикин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558800" y="166680"/>
            <a:ext cx="27367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Пове</a:t>
            </a:r>
            <a:r>
              <a:rPr b="1" lang="sr-CS" sz="14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ан ниво Глукоз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у крв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5365800" y="115920"/>
            <a:ext cx="27046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Смањен ниво Глукоз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у крв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2833560" y="54936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729080" y="1123920"/>
            <a:ext cx="21801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Лу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ење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Инсулин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бета 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елије панкреаса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2906640" y="191628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733400" y="24908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729800" y="2563920"/>
            <a:ext cx="25506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езивање инсулина за свој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цептор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906640" y="321300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735200" y="3716280"/>
            <a:ext cx="23173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ктивација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ФОСФАТАЗ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2906640" y="4149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1731960" y="4579920"/>
            <a:ext cx="249408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ве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на пермеабилност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ембрана за глукозу (јетра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,масно ткиво,мозак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2906640" y="5589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878120" y="6091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1727280" y="6019920"/>
            <a:ext cx="30337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рансфер глукозе из крви у ткива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Синтеза гликоген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16"/>
          <p:cNvSpPr/>
          <p:nvPr/>
        </p:nvSpPr>
        <p:spPr>
          <a:xfrm flipH="1">
            <a:off x="612720" y="1484280"/>
            <a:ext cx="57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7"/>
          <p:cNvSpPr/>
          <p:nvPr/>
        </p:nvSpPr>
        <p:spPr>
          <a:xfrm>
            <a:off x="611280" y="1484280"/>
            <a:ext cx="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3960" y="3357720"/>
            <a:ext cx="169848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Пове</a:t>
            </a:r>
            <a:r>
              <a:rPr b="1" lang="sr-CS" sz="14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ана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активност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гликоген синтаз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9"/>
          <p:cNvSpPr/>
          <p:nvPr/>
        </p:nvSpPr>
        <p:spPr>
          <a:xfrm flipH="1">
            <a:off x="1547280" y="386064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539640" y="4149720"/>
            <a:ext cx="0" cy="20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39640" y="616572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5540040" y="1052640"/>
            <a:ext cx="22456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Лу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ење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глукагона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алфа 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елије панкреаса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6443640" y="54936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6443640" y="177480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5219640" y="2205000"/>
            <a:ext cx="25704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езивање глукагона за свој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цептор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5221080" y="3068640"/>
            <a:ext cx="284004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ктивација аденилат циклазе 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станак cAMP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27"/>
          <p:cNvSpPr/>
          <p:nvPr/>
        </p:nvSpPr>
        <p:spPr>
          <a:xfrm>
            <a:off x="6443640" y="278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226480" y="3933720"/>
            <a:ext cx="187380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ктивација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КИНАЗ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5223240" y="4581360"/>
            <a:ext cx="225180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Пове</a:t>
            </a:r>
            <a:r>
              <a:rPr b="1" lang="sr-CS" sz="14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ана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активност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гликоген фосфорилаз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6948360" y="4076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7312680" y="3789360"/>
            <a:ext cx="169848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Инхибициј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активности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гликоген синтаз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Line 32"/>
          <p:cNvSpPr/>
          <p:nvPr/>
        </p:nvSpPr>
        <p:spPr>
          <a:xfrm>
            <a:off x="6012000" y="4292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5416560" y="5969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5145840" y="5789520"/>
            <a:ext cx="290880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Разградња гликогена,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рансфер глукозе из ткива у крв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гулација гликемије (ЈЕТРА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35"/>
          <p:cNvSpPr/>
          <p:nvPr/>
        </p:nvSpPr>
        <p:spPr>
          <a:xfrm>
            <a:off x="6156360" y="5373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00"/>
                </a:solidFill>
                <a:latin typeface="Arial"/>
              </a:rPr>
              <a:t>ГЛИКОГЕНЕ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роцес синтезе гликоге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зива се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гликоген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окализација процеса гликогенезе – цитосол (пре свега хепатоцита и ћелија скелетних мишић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Синтеза гликоген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е се одвијати у организму, у сл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ају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да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је концентрација глукозе и/или АТП пов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ан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8435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За синтезу гликогена потребан је почетни сегмент гликогена - ГЛИКОГЕНИН, који је гликопротеинске природе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Први глукозил остатак везује се за полипептидни ланац гликогенина, са чијим хидрокси аминокиселинама (серин, треонин, тирозин) успоставља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О-гликозидну везу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Наредни остатак глукозе надовезује се на претходни стварањем α-1,4-гликозидне везе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ГЛИКОГЕНИН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остаје сачуван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условима гладовањ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када преовладав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гликогенолиза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5410080" y="4038480"/>
            <a:ext cx="359280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8:08:37Z</dcterms:created>
  <dc:creator>XP</dc:creator>
  <dc:description/>
  <dc:language>en-US</dc:language>
  <cp:lastModifiedBy>snskg1</cp:lastModifiedBy>
  <dcterms:modified xsi:type="dcterms:W3CDTF">2022-08-23T09:18:57Z</dcterms:modified>
  <cp:revision>93</cp:revision>
  <dc:subject/>
  <dc:title>Slide 1</dc:title>
</cp:coreProperties>
</file>